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ashreg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686-3EDE-4328-8BDD-ED9836FA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8AE-80E7-4E0F-95C7-566AC0AF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07C-3C65-44A6-AF0F-CE2360BC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406-3D98-4EA8-9647-60F06243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0F1-3263-4F5D-9BD9-B5EF0711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7C0F-82C2-4B79-8CDD-CF091D73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49BC-6874-4223-AD44-C5BFB08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90B5-75D4-4562-BDC9-C0426402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00A-C186-4F5B-8EED-1CDC64B6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0CAA-DB62-461C-ABF3-E0F2199A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D6BA-019D-490C-85B5-534D049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AE0-76D5-4484-8435-729E5596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1B93-2156-4A39-8E1D-BAE889C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F0AF-C068-47D0-A19C-D6CD712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0F3F-9408-4C64-8FB8-AA3F42A0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FA91-5CDE-47B9-AAD1-A95064D0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43A2-19D2-463D-8A1D-96ABFFF1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8E95-4813-48F4-AD0E-28512241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E321-A0CE-4F4B-8D36-2E7AEB0F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D057-D7CA-48E8-B347-EB0C52F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689F-1578-4FA7-9565-67EEEEF2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5D4E-4451-4B8F-911F-95E416AE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36C-9C01-457D-BDF1-A002BBB3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75AD-AE46-4C35-AF2D-61AEB200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D895-F429-44F8-A94B-E8C70414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DF75-B437-41A1-ACF8-D4F1D6A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A9DB-B624-4096-B231-4F911AD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10A3-7265-4111-BE34-529907EB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87A3-CE16-4711-B50B-B13F2CB8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0026-2243-4F67-B423-502A121B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CB620-7BCC-40DA-BB88-9FDF264C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A9F6-ED96-4AC4-BDBF-FC47AA6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E520-4F9F-4715-8AB4-A085A27C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9BC-3ECF-4AA5-A2E1-789651C4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F6A36-8B5A-4085-B18B-44C087B3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9811-D193-41E9-B79F-7A45E018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772F-5760-4D63-9221-3FE8575A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BE99-4108-4CFB-9645-5948690F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0E28-D20E-4E63-B25D-992C5221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B9C94-E3AA-45AC-9876-86559B0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2E13-242F-4554-AD5E-85603BC0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D01A8-165C-46B6-AE29-F7B3DC8A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71DA9-6421-442C-950A-36CF3258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32D-97E9-41F9-B683-9A0EC273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AC9-0D73-418D-9613-9ADA9CE3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C20-DE9C-497B-9B67-17B5E63C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81B-77DD-4CB5-8CC2-49822014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5E0-D5A6-4BD3-A37A-863CF38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7DBE-CD2D-4B7D-A933-EB0AB1BF46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AFD9-A2E4-4F81-AA00-4970325956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C35-BEB4-4DCE-B07E-CEBD712B3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AFD3-9A83-4CA5-8060-0BD3A3B8CB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7" descr="图片133366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5"/>
          <p:cNvSpPr/>
          <p:nvPr/>
        </p:nvSpPr>
        <p:spPr>
          <a:xfrm>
            <a:off x="223668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1080" y="3352680"/>
            <a:ext cx="87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问 题 解 决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895480" y="2558880"/>
            <a:ext cx="3240360" cy="3240"/>
            <a:chOff x="2895480" y="2558880"/>
            <a:chExt cx="3240360" cy="3240"/>
          </a:xfrm>
        </p:grpSpPr>
        <p:sp>
          <p:nvSpPr>
            <p:cNvPr id="170" name="Line 10"/>
            <p:cNvSpPr/>
            <p:nvPr/>
          </p:nvSpPr>
          <p:spPr>
            <a:xfrm>
              <a:off x="2895480" y="2558880"/>
              <a:ext cx="3240360" cy="3240"/>
            </a:xfrm>
            <a:prstGeom prst="line">
              <a:avLst/>
            </a:prstGeom>
            <a:ln w="57240">
              <a:solidFill>
                <a:srgbClr val="8dd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895480" y="2558880"/>
              <a:ext cx="32403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966240" y="1812960"/>
            <a:ext cx="3925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 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除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539640" y="501480"/>
            <a:ext cx="8158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总结与反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332000" y="2349360"/>
            <a:ext cx="68389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这节课学习的是什么内容？你有哪些收获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未标题-1"/>
          <p:cNvPicPr/>
          <p:nvPr/>
        </p:nvPicPr>
        <p:blipFill>
          <a:blip r:embed="rId2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4" descr="小数五年级上册_页面_064"/>
          <p:cNvPicPr/>
          <p:nvPr/>
        </p:nvPicPr>
        <p:blipFill>
          <a:blip r:embed="rId2"/>
          <a:srcRect l="17301" t="33853" r="31905" b="62298"/>
          <a:stretch/>
        </p:blipFill>
        <p:spPr>
          <a:xfrm>
            <a:off x="900000" y="4941720"/>
            <a:ext cx="7417080" cy="79092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6"/>
          <p:cNvGrpSpPr/>
          <p:nvPr/>
        </p:nvGrpSpPr>
        <p:grpSpPr>
          <a:xfrm>
            <a:off x="828720" y="1270080"/>
            <a:ext cx="7559280" cy="3600000"/>
            <a:chOff x="828720" y="1270080"/>
            <a:chExt cx="7559280" cy="3600000"/>
          </a:xfrm>
        </p:grpSpPr>
        <p:pic>
          <p:nvPicPr>
            <p:cNvPr id="176" name="Picture 15" descr="小数五年级上册_页面_064"/>
            <p:cNvPicPr/>
            <p:nvPr/>
          </p:nvPicPr>
          <p:blipFill>
            <a:blip r:embed="rId3"/>
            <a:srcRect l="28091" t="8461" r="12465" b="65367"/>
            <a:stretch/>
          </p:blipFill>
          <p:spPr>
            <a:xfrm>
              <a:off x="2447280" y="1270080"/>
              <a:ext cx="5940720" cy="35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3" descr="小数五年级上册_页面_064"/>
            <p:cNvPicPr/>
            <p:nvPr/>
          </p:nvPicPr>
          <p:blipFill>
            <a:blip r:embed="rId4"/>
            <a:srcRect l="11892" t="12857" r="51070" b="65367"/>
            <a:stretch/>
          </p:blipFill>
          <p:spPr>
            <a:xfrm>
              <a:off x="828720" y="1879920"/>
              <a:ext cx="3701520" cy="299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5"/>
          <p:cNvSpPr/>
          <p:nvPr/>
        </p:nvSpPr>
        <p:spPr>
          <a:xfrm>
            <a:off x="2195640" y="53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五号摊位的蘑菇更合算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3769200" y="4567320"/>
            <a:ext cx="15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34" descr="小数五年级上册_页面_064"/>
          <p:cNvPicPr/>
          <p:nvPr/>
        </p:nvPicPr>
        <p:blipFill>
          <a:blip r:embed="rId2"/>
          <a:srcRect l="21666" t="37356" r="44478" b="50606"/>
          <a:stretch/>
        </p:blipFill>
        <p:spPr>
          <a:xfrm>
            <a:off x="828720" y="1774800"/>
            <a:ext cx="446400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小数五年级上册_页面_064"/>
          <p:cNvPicPr/>
          <p:nvPr/>
        </p:nvPicPr>
        <p:blipFill>
          <a:blip r:embed="rId3"/>
          <a:srcRect l="59358" t="44502" r="8969" b="41279"/>
          <a:stretch/>
        </p:blipFill>
        <p:spPr>
          <a:xfrm>
            <a:off x="5364000" y="3070080"/>
            <a:ext cx="308160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9"/>
          <p:cNvGrpSpPr/>
          <p:nvPr/>
        </p:nvGrpSpPr>
        <p:grpSpPr>
          <a:xfrm>
            <a:off x="5300640" y="1341360"/>
            <a:ext cx="3081240" cy="1224000"/>
            <a:chOff x="5300640" y="1341360"/>
            <a:chExt cx="3081240" cy="1224000"/>
          </a:xfrm>
        </p:grpSpPr>
        <p:pic>
          <p:nvPicPr>
            <p:cNvPr id="183" name="Picture 37" descr="小数五年级上册_页面_064"/>
            <p:cNvPicPr/>
            <p:nvPr/>
          </p:nvPicPr>
          <p:blipFill>
            <a:blip r:embed="rId4"/>
            <a:srcRect l="59358" t="37129" r="8969" b="56025"/>
            <a:stretch/>
          </p:blipFill>
          <p:spPr>
            <a:xfrm>
              <a:off x="5300640" y="1619280"/>
              <a:ext cx="308124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5" descr="小数五年级上册_页面_064"/>
            <p:cNvPicPr/>
            <p:nvPr/>
          </p:nvPicPr>
          <p:blipFill>
            <a:blip r:embed="rId5"/>
            <a:srcRect l="71207" t="35029" r="8969" b="56025"/>
            <a:stretch/>
          </p:blipFill>
          <p:spPr>
            <a:xfrm>
              <a:off x="6450120" y="1341360"/>
              <a:ext cx="192888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132000" y="234936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   量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67280" y="235584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  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11280" y="320976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号摊位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11280" y="415296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号摊位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556000" y="3233880"/>
            <a:ext cx="31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×2=12(kg)   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292720" y="3232080"/>
            <a:ext cx="34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×2=54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元）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906640" y="4152960"/>
            <a:ext cx="18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k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987880" y="4149720"/>
            <a:ext cx="11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3726000" y="493704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4 &gt; 5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763640" y="5661000"/>
            <a:ext cx="59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五号摊位的蘑菇更合算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2555280" y="1481040"/>
            <a:ext cx="32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用１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k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蘑菇的价格比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云形 1"/>
          <p:cNvSpPr/>
          <p:nvPr/>
        </p:nvSpPr>
        <p:spPr>
          <a:xfrm>
            <a:off x="4483080" y="407880"/>
            <a:ext cx="4103640" cy="2154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以用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蘑菇的价格比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33240" y="1554120"/>
            <a:ext cx="780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小红家在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5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㎡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土地上收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3.3kg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菜，小林家在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8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㎡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土地上收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6kg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菜。哪家白菜的收成好一些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39640" y="501480"/>
            <a:ext cx="8158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拓展练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826920" y="3990960"/>
            <a:ext cx="76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红家：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83.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8.5=9.8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林家：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5.6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8=9.5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9.8&gt;9.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：小红家白菜的收成好一些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8"/>
          <p:cNvSpPr/>
          <p:nvPr/>
        </p:nvSpPr>
        <p:spPr>
          <a:xfrm>
            <a:off x="2843280" y="20908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谁的速度快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11" descr="小数五年级上册_页面_065"/>
          <p:cNvPicPr/>
          <p:nvPr/>
        </p:nvPicPr>
        <p:blipFill>
          <a:blip r:embed="rId2"/>
          <a:srcRect l="14059" t="68167" r="55225" b="23372"/>
          <a:stretch/>
        </p:blipFill>
        <p:spPr>
          <a:xfrm>
            <a:off x="684360" y="3635280"/>
            <a:ext cx="3671640" cy="1419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小数五年级上册_页面_065"/>
          <p:cNvPicPr/>
          <p:nvPr/>
        </p:nvPicPr>
        <p:blipFill>
          <a:blip r:embed="rId3"/>
          <a:srcRect l="56235" t="68167" r="12438" b="23372"/>
          <a:stretch/>
        </p:blipFill>
        <p:spPr>
          <a:xfrm>
            <a:off x="4284720" y="3665520"/>
            <a:ext cx="3744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8"/>
          <p:cNvSpPr/>
          <p:nvPr/>
        </p:nvSpPr>
        <p:spPr>
          <a:xfrm>
            <a:off x="2125800" y="1846440"/>
            <a:ext cx="45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速度</a:t>
            </a:r>
            <a:r>
              <a:rPr b="1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=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路程</a:t>
            </a:r>
            <a:r>
              <a:rPr b="1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÷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900000" y="31431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洋洋：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38.4÷8=4.8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m/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258920" y="42973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方方：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75.2÷16=4.7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m/s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90680" y="541440"/>
            <a:ext cx="818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随着秦岭终南山隧道的建成，西安至柞水的通行里程由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6km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缩短为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4.7km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行车速度由原来的每时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5km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到每时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km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行车时间比原来少用多少小时？（得数保留整数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文本框 1"/>
          <p:cNvSpPr/>
          <p:nvPr/>
        </p:nvSpPr>
        <p:spPr>
          <a:xfrm>
            <a:off x="727200" y="4383000"/>
            <a:ext cx="768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46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5.5≈3.2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64.7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≈0.7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21-0.72≈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：行车时间比原来少用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96720" y="358920"/>
            <a:ext cx="81583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课堂活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395360" y="1276200"/>
            <a:ext cx="65516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了解班上或学校订的几种报纸的定价，算一算每期报纸的价格是多少元。比较几种类似的报纸的价格和质量后，你建议订阅哪种报纸，并说一说你的理由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16" descr="小数五年级上册_页面_064"/>
          <p:cNvPicPr/>
          <p:nvPr/>
        </p:nvPicPr>
        <p:blipFill>
          <a:blip r:embed="rId2"/>
          <a:srcRect l="16225" t="82331" r="10293" b="9211"/>
          <a:stretch/>
        </p:blipFill>
        <p:spPr>
          <a:xfrm>
            <a:off x="755640" y="4857840"/>
            <a:ext cx="76327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/>
  <dcterms:modified xsi:type="dcterms:W3CDTF">2017-11-07T22:39:11Z</dcterms:modified>
  <cp:revision>0</cp:revision>
  <dc:subject> </dc:subject>
  <dc:title> </dc:title>
</cp:coreProperties>
</file>